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13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5560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9080" y="745920"/>
            <a:ext cx="49672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0760" y="4719240"/>
            <a:ext cx="5445000" cy="4473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5560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4D38-5248-4697-B830-1D0E79CCAA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0760" y="4719240"/>
            <a:ext cx="54450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3F18-727B-4DCF-AD05-EE392C1B7B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0760" y="4719240"/>
            <a:ext cx="54450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CE78-68B2-4BC9-86D1-1011EE93CF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64A6-E08A-4320-82AC-4481C19D98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0760" y="4719240"/>
            <a:ext cx="54450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F466-4337-45AB-989F-57F05D7FE3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0760" y="4719240"/>
            <a:ext cx="54450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559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5979-DD6C-4EAA-9F50-87535A88CC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B4CA-9966-407D-A87D-2A981214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1057-8C76-4EA5-920B-F229BA5F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56A1-A8B8-402A-8C8D-46F27EB1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F77A-673D-4065-975B-267E23F5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897C-8265-48B3-A30B-33DF1015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1EB4-E6CA-4217-A734-94CB7141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00A8-A9E9-4C58-B391-103A2535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C1F5-87AB-432D-B30B-A6D4ABBE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06E3-7166-4D4F-8AEE-82762CC6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C65A-1B7D-4961-894D-277377EF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C061-2E32-4172-B22F-CFA359B5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F216-2912-4FC7-A7ED-CC805B6C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4293-6E33-474D-A1B9-A4DC1680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6BE7-6046-4944-A691-99673318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528D-7E3C-4F2A-8770-694D2695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4340-A5F0-4566-9D78-3C4621DD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13B0-A6F9-4CE4-8B6E-A6C99720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B2C0-301C-40A6-B539-8FFC548B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CD95-BC12-4C62-BF3C-E6BBF38B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3C58-EA4F-4E55-BD19-1AB4E7EE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CA1C-7FB7-4DEA-ADAE-046A08C4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5290-63C8-4B14-8236-6D9F4EA5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D512-6883-4046-9342-4E146822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529C-5669-49F4-8537-FE5807BA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8521-85E6-4C10-9DF8-83610B7335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C6E4-9DF4-488F-8205-75AA002066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frm=1&amp;source=images&amp;cd=&amp;cad=rja&amp;docid=sOgW4qKif2B6yM&amp;tbnid=QZOtBaxsQjkDwM:&amp;ved=0CAUQjRw&amp;url=http%3A%2F%2Fwww.poliklinika6.by%2F3e_terapevticheskoe_otdelenie.html&amp;ei=Ey9BUvLYIsei4gTmioGABQ&amp;bvm=bv.52434380,d.bGE&amp;psig=AFQjCNGoJc6u9eW9njhBEiErzyIN1kFbOQ&amp;ust=1380089943586547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source=images&amp;cd=&amp;cad=rja&amp;docid=mqW0x-0vcxqxVM&amp;tbnid=j0xYzrtp_jWT3M:&amp;ved=0CAgQjRwwAA&amp;url=http%3A%2F%2Fwww.pressfoto.ru%2Fimage-516255&amp;ei=bENBUqWYAsaN4gSPlYDIAg&amp;psig=AFQjCNHQROJ4K7obibaO24TleboxxX3--Q&amp;ust=1380095212083810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google.ru/url?sa=i&amp;source=images&amp;cd=&amp;cad=rja&amp;docid=NU2BMZSd1Bv1-M&amp;tbnid=gYUGWv7y27SjmM:&amp;ved=0CAgQjRwwAA&amp;url=http%3A%2F%2Fwww.sh-aohua.ru%2Ffibroendoskopy.html&amp;ei=pENBUsioIOez4ATg8oCAAw&amp;psig=AFQjCNFrq4sXyXKTJUA9hij-B3MEpZmwGA&amp;ust=1380095268577896" TargetMode="External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frm=1&amp;source=images&amp;cd=&amp;cad=rja&amp;docid=a-lK_sppWlOwLM&amp;tbnid=_AK9Sjx7B2d7VM:&amp;ved=0CAUQjRw&amp;url=http%3A%2F%2Fwww.med.cap.ru%2FServices.aspx%3Fmtyperun%3D48&amp;ei=AxhBUrLbI8q14AT1p4DIAQ&amp;bvm=bv.52434380,d.bGE&amp;psig=AFQjCNGWkYkpN1eaZNeJFrDiLOvoo0zcdg&amp;ust=1380084032307511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ru/url?sa=i&amp;source=images&amp;cd=&amp;cad=rja&amp;docid=bi43YE01E4YG_M&amp;tbnid=MffgLQl2oXt41M:&amp;ved=0CAgQjRwwAA&amp;url=http%3A%2F%2Fwww.ellada-russia.ru%2Fusefull%2F78-%25D0%25A1%25D0%259E%25D0%2592%25D0%2595%25D0%25A2%25D0%25AB-%25D0%25A0%25D0%2595%25D0%259A%25D0%259E%25D0%259C%25D0%2595%25D0%259D%25D0%2594%25D0%2590%25D0%25A6%25D0%2598%25D0%2598&amp;ei=nk3vUZT8K8Ws4AS70ICYDw&amp;psig=AFQjCNGD7E_EnIqHrDXfP-W1wLUbpoPAJQ&amp;ust=1374723870761656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hyperlink" Target="http://www.google.ru/url?sa=i&amp;source=images&amp;cd=&amp;cad=rja&amp;docid=3Hjf5RZDJY8xUM&amp;tbnid=nSfqDDjcuAP29M:&amp;ved=0CAgQjRwwAA&amp;url=http%3A%2F%2Fwiki-work.ru%2Fpoleznoe-o-zarabotke-v-internete%2Fmozhno-li-zarabotat-v-internete-bolshie-dengi.html&amp;ei=MUzvUdKbCpSQ4gTxnYGICA&amp;psig=AFQjCNE5UyI0iGPV_Gww01wZLluopWak4w&amp;ust=1374723505211696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www.google.ru/url?sa=i&amp;source=images&amp;cd=&amp;cad=rja&amp;docid=ww8Zt8wrVPRDZM&amp;tbnid=xRcDf3j0EqmtNM:&amp;ved=0CAgQjRwwAA&amp;url=http%3A%2F%2Fmytashkent.uz%2F2010%2F07%2F06%2Fpochtovyiy-yaschik%2F&amp;ei=ExlBUvzpMYf_4QTzooCACA&amp;psig=AFQjCNHhebEFmKdohPnimfAVPDQR9FBY6Q&amp;ust=1380084371853207" TargetMode="External"/><Relationship Id="rId10" Type="http://schemas.openxmlformats.org/officeDocument/2006/relationships/image" Target="../media/image10.jpeg"/><Relationship Id="rId11" Type="http://schemas.openxmlformats.org/officeDocument/2006/relationships/hyperlink" Target="http://www.google.ru/url?sa=i&amp;rct=j&amp;q=&amp;esrc=s&amp;frm=1&amp;source=images&amp;cd=&amp;cad=rja&amp;docid=HHMIef1_BznvTM&amp;tbnid=Xv1gnPz4bQiukM:&amp;ved=0CAUQjRw&amp;url=http%3A%2F%2Fvrach24plus.ru%2Fvyzov-vracha-na-dom%2F&amp;ei=KBpBUpzZCanX4ASAt4AI&amp;bvm=bv.52434380,d.bGE&amp;psig=AFQjCNEHNBD5Om5vn9U20rGl0jmf1Y9gdg&amp;ust=1380084452298908" TargetMode="External"/><Relationship Id="rId12" Type="http://schemas.openxmlformats.org/officeDocument/2006/relationships/image" Target="../media/image11.png"/><Relationship Id="rId13" Type="http://schemas.openxmlformats.org/officeDocument/2006/relationships/image" Target="../media/image12.jpeg"/><Relationship Id="rId14" Type="http://schemas.openxmlformats.org/officeDocument/2006/relationships/hyperlink" Target="http://www.google.ru/url?sa=i&amp;rct=j&amp;q=&amp;esrc=s&amp;frm=1&amp;source=images&amp;cd=&amp;cad=rja&amp;docid=n0z_XpP4jJV-fM&amp;tbnid=o9Ex43Ev_ZsfhM:&amp;ved=0CAUQjRw&amp;url=http%3A%2F%2Fwww.ktovmedicine.ru%2F2007%2F6%2Fnasha-glavnaya-zadacha-povysit-dostupnost-medicinskoy-pomoschi.html&amp;ei=Bx1BUuyqFMOK4AS1kIDYCg&amp;bvm=bv.52434380,d.bGE&amp;psig=AFQjCNG2TsJIHp1PEnj3o9Qwip0ibqeutw&amp;ust=1380085368534537" TargetMode="External"/><Relationship Id="rId15" Type="http://schemas.openxmlformats.org/officeDocument/2006/relationships/image" Target="../media/image13.jpeg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source=images&amp;cd=&amp;cad=rja&amp;docid=3CbdiaOrNS6WKM&amp;tbnid=uIO6jEOL8ZOxFM:&amp;ved=0CAgQjRwwAA&amp;url=http%3A%2F%2Fwww.myjulia.ru%2Fpost%2F492036%2F&amp;ei=WiZBUoKALYeC4gTnmICQCA&amp;psig=AFQjCNE4YcUCHQoKJx9Ma4ml2EdZdKKu_A&amp;ust=1380087770777155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google.ru/url?sa=i&amp;rct=j&amp;q=&amp;esrc=s&amp;frm=1&amp;source=images&amp;cd=&amp;cad=rja&amp;docid=XBJCAAuFmmyO-M&amp;tbnid=-kadpoGoSGivIM:&amp;ved=0CAUQjRw&amp;url=http%3A%2F%2Fr-dmm.simbis.ru%2Fart%2Fmeditsinskaya-ambulatornaya-karta%2F&amp;ei=eSlBUp6eCqn44QSWoYGwDw&amp;bvm=bv.52434380,d.bGE&amp;psig=AFQjCNFfbhAfn3zX-tLNItP6IdsHSr5WMw&amp;ust=1380088561980245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www.google.ru/url?sa=i&amp;rct=j&amp;q=&amp;esrc=s&amp;frm=1&amp;source=images&amp;cd=&amp;cad=rja&amp;docid=RbZsvOl4BtPHoM&amp;tbnid=aMFeU0R5UlkhsM:&amp;ved=0CAUQjRw&amp;url=http%3A%2F%2Fmedpro.ru%2Fnews%2Fv_skvortsova_poobeshchala_vracham_rabotu_bez_medsester&amp;ei=BypBUuakD8SE4gSOk4CoCQ&amp;bvm=bv.52434380,d.bGE&amp;psig=AFQjCNHYGkrEJdfFCpqtGA32eW8RffEHIw&amp;ust=1380088689406054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0" y="1989000"/>
            <a:ext cx="9144000" cy="42879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1"/>
          <p:cNvSpPr/>
          <p:nvPr/>
        </p:nvSpPr>
        <p:spPr>
          <a:xfrm>
            <a:off x="0" y="2000160"/>
            <a:ext cx="9144000" cy="28728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6715080" y="6215040"/>
            <a:ext cx="1428840" cy="142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7"/>
          <p:cNvSpPr/>
          <p:nvPr/>
        </p:nvSpPr>
        <p:spPr>
          <a:xfrm flipH="1">
            <a:off x="684360" y="2565360"/>
            <a:ext cx="1440" cy="338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714240" y="2171880"/>
            <a:ext cx="8209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ИТОГИ ДИСПАНСЕРИЗАЦИИ НАСЕЛЕНИЯ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1.10.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меститель Министра  здравоохра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ковлева Т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результаты диспансеризации взрослого насе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оугольник 1"/>
          <p:cNvSpPr/>
          <p:nvPr/>
        </p:nvSpPr>
        <p:spPr>
          <a:xfrm flipV="1">
            <a:off x="428760" y="-720"/>
            <a:ext cx="2592360" cy="73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0" y="1434960"/>
            <a:ext cx="9144000" cy="146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20 тыс. больных артериальной гипертонией и 320 тыс. в стадии уточ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33 тыс. больных ишемической болезнью сердца и 75 тыс. в стадии уточ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74 тыс. больных с цереброваскулярной патологией и 41 тыс. в стадии уточ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65  тыс. больных с патологией органов дыхания и 56 тыс. в стадии уточ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5 тыс. онкологических заболеваний и 31 тыс. в стадии уточ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http://www.poliklinika6.by/ill/photo_40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28960" y="3571920"/>
            <a:ext cx="2857320" cy="17859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"/>
          <p:cNvSpPr/>
          <p:nvPr/>
        </p:nvSpPr>
        <p:spPr>
          <a:xfrm>
            <a:off x="0" y="52984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84 больных артериальной гипертонией и 64 человека, требующих  уточ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6 больных ишемической болезнью сердца и 15 человек, требующих  уточ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5 больных с цереброваскулярной патологией и 8 человек, требующих  уточ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3 больных с патологией органов дыхания и 11 человек, требующих  уточ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 онкологических заболевания и 6 человек, требующих  уточнения диагн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7"/>
          <p:cNvSpPr/>
          <p:nvPr/>
        </p:nvSpPr>
        <p:spPr>
          <a:xfrm>
            <a:off x="0" y="1000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ходе диспансеризации выявле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8"/>
          <p:cNvSpPr/>
          <p:nvPr/>
        </p:nvSpPr>
        <p:spPr>
          <a:xfrm>
            <a:off x="0" y="2857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испансеризация позволяет выявить на каждые 2000 челов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средняя численность терапевтического участка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9"/>
          <p:cNvSpPr/>
          <p:nvPr/>
        </p:nvSpPr>
        <p:spPr>
          <a:xfrm>
            <a:off x="8826480" y="648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5"/>
          <p:cNvSpPr/>
          <p:nvPr/>
        </p:nvSpPr>
        <p:spPr>
          <a:xfrm>
            <a:off x="0" y="0"/>
            <a:ext cx="9144000" cy="307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6"/>
          <p:cNvSpPr/>
          <p:nvPr/>
        </p:nvSpPr>
        <p:spPr>
          <a:xfrm flipV="1">
            <a:off x="214200" y="0"/>
            <a:ext cx="259092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пы здоровья взрослого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49"/>
          <p:cNvGrpSpPr/>
          <p:nvPr/>
        </p:nvGrpSpPr>
        <p:grpSpPr>
          <a:xfrm>
            <a:off x="1428840" y="1143000"/>
            <a:ext cx="6357960" cy="4305600"/>
            <a:chOff x="1428840" y="1143000"/>
            <a:chExt cx="6357960" cy="4305600"/>
          </a:xfrm>
        </p:grpSpPr>
        <p:graphicFrame>
          <p:nvGraphicFramePr>
            <p:cNvPr id="221" name="Object 3"/>
            <p:cNvGraphicFramePr/>
            <p:nvPr/>
          </p:nvGraphicFramePr>
          <p:xfrm>
            <a:off x="1428840" y="1143000"/>
            <a:ext cx="6357960" cy="407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28840" y="1143000"/>
                      <a:ext cx="6357960" cy="407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3" name="Text Box 132"/>
            <p:cNvSpPr/>
            <p:nvPr/>
          </p:nvSpPr>
          <p:spPr>
            <a:xfrm>
              <a:off x="3286080" y="4286160"/>
              <a:ext cx="114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 групп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33"/>
            <p:cNvSpPr/>
            <p:nvPr/>
          </p:nvSpPr>
          <p:spPr>
            <a:xfrm>
              <a:off x="4929120" y="4928400"/>
              <a:ext cx="1355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процессе уточн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34"/>
            <p:cNvSpPr/>
            <p:nvPr/>
          </p:nvSpPr>
          <p:spPr>
            <a:xfrm>
              <a:off x="4851000" y="3065400"/>
              <a:ext cx="12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 групп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35"/>
            <p:cNvSpPr/>
            <p:nvPr/>
          </p:nvSpPr>
          <p:spPr>
            <a:xfrm>
              <a:off x="4789440" y="2428200"/>
              <a:ext cx="64260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1,8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36"/>
            <p:cNvSpPr/>
            <p:nvPr/>
          </p:nvSpPr>
          <p:spPr>
            <a:xfrm>
              <a:off x="3431520" y="3713760"/>
              <a:ext cx="64260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1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37"/>
            <p:cNvSpPr/>
            <p:nvPr/>
          </p:nvSpPr>
          <p:spPr>
            <a:xfrm>
              <a:off x="3359880" y="2142360"/>
              <a:ext cx="64260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2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46"/>
            <p:cNvSpPr/>
            <p:nvPr/>
          </p:nvSpPr>
          <p:spPr>
            <a:xfrm>
              <a:off x="4646880" y="4429080"/>
              <a:ext cx="55260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,2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47"/>
            <p:cNvSpPr/>
            <p:nvPr/>
          </p:nvSpPr>
          <p:spPr>
            <a:xfrm>
              <a:off x="3071880" y="2499480"/>
              <a:ext cx="114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 групп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155"/>
          <p:cNvSpPr/>
          <p:nvPr/>
        </p:nvSpPr>
        <p:spPr>
          <a:xfrm>
            <a:off x="6717600" y="4392720"/>
            <a:ext cx="6426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,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57"/>
          <p:cNvSpPr/>
          <p:nvPr/>
        </p:nvSpPr>
        <p:spPr>
          <a:xfrm>
            <a:off x="5809680" y="4113360"/>
            <a:ext cx="6426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,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32"/>
          <p:cNvSpPr/>
          <p:nvPr/>
        </p:nvSpPr>
        <p:spPr>
          <a:xfrm flipV="1">
            <a:off x="428760" y="-720"/>
            <a:ext cx="2592360" cy="73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33"/>
          <p:cNvSpPr/>
          <p:nvPr/>
        </p:nvSpPr>
        <p:spPr>
          <a:xfrm>
            <a:off x="8706240" y="648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1"/>
          <p:cNvSpPr/>
          <p:nvPr/>
        </p:nvSpPr>
        <p:spPr>
          <a:xfrm>
            <a:off x="500040" y="142884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и очень высокий риск  смерти без доказанных заболевани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500040" y="428616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и умеренный риск  см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5786280" y="1428840"/>
            <a:ext cx="29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ния, требующие динамические наблю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второй этап диспансеризации направляется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% граждан, проходящих первый этап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Прямоугольник 1"/>
          <p:cNvSpPr/>
          <p:nvPr/>
        </p:nvSpPr>
        <p:spPr>
          <a:xfrm flipV="1">
            <a:off x="428760" y="-720"/>
            <a:ext cx="2592360" cy="73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http://storage.pressfoto.ru/2011.02/5162556504985486ab26ee5c40efc9f9ac2bdc1bb2_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43000"/>
            <a:ext cx="1928880" cy="1285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http://www.sh-aohua.ru/uploads/catalog/gastroscop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86080" y="3000240"/>
            <a:ext cx="2286000" cy="1500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http://www.nevromed.ru/sites/default/files/fd/uzi/duplex_doc2.jpg"/>
          <p:cNvPicPr/>
          <p:nvPr/>
        </p:nvPicPr>
        <p:blipFill>
          <a:blip r:embed="rId5"/>
          <a:stretch/>
        </p:blipFill>
        <p:spPr>
          <a:xfrm>
            <a:off x="5572080" y="3000240"/>
            <a:ext cx="1857600" cy="1428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" descr="http://petrovskcrb.ru/images/news/377.jpg"/>
          <p:cNvPicPr/>
          <p:nvPr/>
        </p:nvPicPr>
        <p:blipFill>
          <a:blip r:embed="rId6"/>
          <a:stretch/>
        </p:blipFill>
        <p:spPr>
          <a:xfrm>
            <a:off x="7000920" y="4286160"/>
            <a:ext cx="1857240" cy="16668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10"/>
          <p:cNvSpPr/>
          <p:nvPr/>
        </p:nvSpPr>
        <p:spPr>
          <a:xfrm>
            <a:off x="0" y="100008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липидного спектра крови -  9,1% от лиц, прошедших первый эта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11"/>
          <p:cNvSpPr/>
          <p:nvPr/>
        </p:nvSpPr>
        <p:spPr>
          <a:xfrm>
            <a:off x="2357280" y="228600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оскопия, колоноскопия, УЗИ сосудов шеи, консультации уролога, проктолога, хирурга, офтальмолога – от 1,3% до 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12"/>
          <p:cNvSpPr/>
          <p:nvPr/>
        </p:nvSpPr>
        <p:spPr>
          <a:xfrm>
            <a:off x="1785960" y="52862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патологии в 58% случ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4"/>
          <p:cNvSpPr/>
          <p:nvPr/>
        </p:nvSpPr>
        <p:spPr>
          <a:xfrm>
            <a:off x="285840" y="464328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патологии в 22% случ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Прямая со стрелкой 15"/>
          <p:cNvCxnSpPr/>
          <p:nvPr/>
        </p:nvCxnSpPr>
        <p:spPr>
          <a:xfrm flipH="1">
            <a:off x="4785840" y="4572000"/>
            <a:ext cx="858240" cy="64332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9" name="Прямая со стрелкой 17"/>
          <p:cNvCxnSpPr/>
          <p:nvPr/>
        </p:nvCxnSpPr>
        <p:spPr>
          <a:xfrm flipH="1">
            <a:off x="2714040" y="4070880"/>
            <a:ext cx="857880" cy="42948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50" name="Прямоугольник 19"/>
          <p:cNvSpPr/>
          <p:nvPr/>
        </p:nvSpPr>
        <p:spPr>
          <a:xfrm>
            <a:off x="8706240" y="648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0"/>
          <p:cNvSpPr/>
          <p:nvPr/>
        </p:nvSpPr>
        <p:spPr>
          <a:xfrm>
            <a:off x="3214800" y="6286680"/>
            <a:ext cx="43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патологии в 20-43% случ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Прямая со стрелкой 21"/>
          <p:cNvCxnSpPr/>
          <p:nvPr/>
        </p:nvCxnSpPr>
        <p:spPr>
          <a:xfrm flipH="1">
            <a:off x="6071400" y="5643720"/>
            <a:ext cx="857880" cy="64332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пансеризация как комплекс мер снижения рис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"/>
          <p:cNvSpPr/>
          <p:nvPr/>
        </p:nvSpPr>
        <p:spPr>
          <a:xfrm flipV="1">
            <a:off x="642960" y="0"/>
            <a:ext cx="259236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4"/>
          <p:cNvSpPr/>
          <p:nvPr/>
        </p:nvSpPr>
        <p:spPr>
          <a:xfrm>
            <a:off x="8706240" y="648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6"/>
          <p:cNvSpPr/>
          <p:nvPr/>
        </p:nvSpPr>
        <p:spPr>
          <a:xfrm>
            <a:off x="1000080" y="571680"/>
            <a:ext cx="7072200" cy="100008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е со 2 и 3 группой здоров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трелка вниз 7"/>
          <p:cNvSpPr/>
          <p:nvPr/>
        </p:nvSpPr>
        <p:spPr>
          <a:xfrm>
            <a:off x="1643040" y="1714680"/>
            <a:ext cx="484200" cy="50004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ffe7e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8"/>
          <p:cNvSpPr/>
          <p:nvPr/>
        </p:nvSpPr>
        <p:spPr>
          <a:xfrm>
            <a:off x="714240" y="2286000"/>
            <a:ext cx="2571840" cy="1571760"/>
          </a:xfrm>
          <a:prstGeom prst="rect">
            <a:avLst/>
          </a:prstGeom>
          <a:solidFill>
            <a:srgbClr val="ffe7e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факторов риска в отделениях медицинской профилактики и в центрах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трелка вниз 9"/>
          <p:cNvSpPr/>
          <p:nvPr/>
        </p:nvSpPr>
        <p:spPr>
          <a:xfrm>
            <a:off x="1643040" y="4000680"/>
            <a:ext cx="4842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e7e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10"/>
          <p:cNvSpPr/>
          <p:nvPr/>
        </p:nvSpPr>
        <p:spPr>
          <a:xfrm>
            <a:off x="714240" y="4500720"/>
            <a:ext cx="2571840" cy="1428480"/>
          </a:xfrm>
          <a:prstGeom prst="rect">
            <a:avLst/>
          </a:prstGeom>
          <a:solidFill>
            <a:srgbClr val="ffe7e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альное снижение риска на 20-30% у 4,8 млн. челов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ждых 10 мл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трелка вниз 12"/>
          <p:cNvSpPr/>
          <p:nvPr/>
        </p:nvSpPr>
        <p:spPr>
          <a:xfrm>
            <a:off x="7000920" y="1643040"/>
            <a:ext cx="484200" cy="6429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3"/>
          <p:cNvSpPr/>
          <p:nvPr/>
        </p:nvSpPr>
        <p:spPr>
          <a:xfrm>
            <a:off x="6072120" y="2357280"/>
            <a:ext cx="2571840" cy="157176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ное наблюдение за всеми и назначение медикаментов 60% лиц с 3 групп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4"/>
          <p:cNvSpPr/>
          <p:nvPr/>
        </p:nvSpPr>
        <p:spPr>
          <a:xfrm>
            <a:off x="6143760" y="4500720"/>
            <a:ext cx="2571480" cy="142848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альное снижение риска на 30-40% у 1-1,4 млн. челов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ждых 10 мл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трелка вниз 15"/>
          <p:cNvSpPr/>
          <p:nvPr/>
        </p:nvSpPr>
        <p:spPr>
          <a:xfrm>
            <a:off x="7072200" y="4000680"/>
            <a:ext cx="4842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6"/>
          <p:cNvSpPr/>
          <p:nvPr/>
        </p:nvSpPr>
        <p:spPr>
          <a:xfrm>
            <a:off x="0" y="592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ономический эффект за счет предотвращенных случаев смерти  на каждые 10 млн. осмотренных человек составят 7, 7 млрд. руб. за 1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ультаты  анкетирования граждан (более 141 тыс. анкет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2"/>
          <p:cNvSpPr/>
          <p:nvPr/>
        </p:nvSpPr>
        <p:spPr>
          <a:xfrm flipV="1">
            <a:off x="642960" y="0"/>
            <a:ext cx="259236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71280" y="476280"/>
          <a:ext cx="8964720" cy="6308640"/>
        </p:xfrm>
        <a:graphic>
          <a:graphicData uri="http://schemas.openxmlformats.org/drawingml/2006/table">
            <a:tbl>
              <a:tblPr/>
              <a:tblGrid>
                <a:gridCol w="7818480"/>
                <a:gridCol w="1146240"/>
              </a:tblGrid>
              <a:tr h="315720">
                <a:tc gridSpan="2"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Откуда Вы узнали о диспансеризации?                                                      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ыли проинформированы медицинскими работниками по почте, по телефону, с помощью других средств 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 были проинформированы медицинскими работниками при непосредственном посещении поликлиники по другому пов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членов семьи, знаком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работод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 из средств массов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аз Вам пришлось посещать медицинскую организацию для полного завершения диспансеризации?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- од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 д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т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ьше трех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Были ли у Вас затруднения с получением разрешения от работодателя на прохождение диспансеризации в рабочий день?           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- 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хожу диспансеризацию в нерабочее 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е работ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Считаете ли Вы диспансеризацию полезным мероприятием?        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 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ет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Прямоугольник 4"/>
          <p:cNvSpPr/>
          <p:nvPr/>
        </p:nvSpPr>
        <p:spPr>
          <a:xfrm>
            <a:off x="8834760" y="648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82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пансеризация как изменение содержания и результатов работы участкового врач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Прямоугольник 6"/>
          <p:cNvSpPr/>
          <p:nvPr/>
        </p:nvSpPr>
        <p:spPr>
          <a:xfrm flipV="1">
            <a:off x="142920" y="0"/>
            <a:ext cx="259236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4"/>
          <p:cNvSpPr/>
          <p:nvPr/>
        </p:nvSpPr>
        <p:spPr>
          <a:xfrm>
            <a:off x="1643040" y="1357200"/>
            <a:ext cx="5786640" cy="9144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5"/>
          <p:cNvSpPr/>
          <p:nvPr/>
        </p:nvSpPr>
        <p:spPr>
          <a:xfrm>
            <a:off x="2357280" y="1357200"/>
            <a:ext cx="5072400" cy="91440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я по поводу обострений и новых заболе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7"/>
          <p:cNvSpPr/>
          <p:nvPr/>
        </p:nvSpPr>
        <p:spPr>
          <a:xfrm>
            <a:off x="1643040" y="3357720"/>
            <a:ext cx="5786640" cy="9144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8"/>
          <p:cNvSpPr/>
          <p:nvPr/>
        </p:nvSpPr>
        <p:spPr>
          <a:xfrm>
            <a:off x="3571920" y="3357720"/>
            <a:ext cx="3857760" cy="91440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я по поводу обострений и новых заболе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трелка вниз 9"/>
          <p:cNvSpPr/>
          <p:nvPr/>
        </p:nvSpPr>
        <p:spPr>
          <a:xfrm>
            <a:off x="2214720" y="2357280"/>
            <a:ext cx="4572000" cy="978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изац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.осмот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1"/>
          <p:cNvSpPr/>
          <p:nvPr/>
        </p:nvSpPr>
        <p:spPr>
          <a:xfrm>
            <a:off x="0" y="4929120"/>
            <a:ext cx="9144000" cy="16430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уменьшение  частоты  выявления  и  регистрации  факторов  риска хронических  неинфекционных  заболеваний  среди  граждан,  проходящих  диспансеризацию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уменьшение  числа  граждан  с  первично  выявленными  заболеваниями  на поздних стадиях их развит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 снижение  инвалидности  и  смертности  от  хронических  неинфекционных заболеваний среди  граждан, проходящих диспансеризацию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увеличение числа граждан, относящихся к I группе здоровья, и уменьшение  числа граждан, относящихся ко II и III группам здоровь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трелка вниз 12"/>
          <p:cNvSpPr/>
          <p:nvPr/>
        </p:nvSpPr>
        <p:spPr>
          <a:xfrm>
            <a:off x="3786120" y="4357800"/>
            <a:ext cx="1428840" cy="57132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0"/>
          <p:cNvSpPr/>
          <p:nvPr/>
        </p:nvSpPr>
        <p:spPr>
          <a:xfrm>
            <a:off x="8706240" y="648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13"/>
          <p:cNvSpPr/>
          <p:nvPr/>
        </p:nvSpPr>
        <p:spPr>
          <a:xfrm>
            <a:off x="219600" y="242892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Прямая со стрелкой 14"/>
          <p:cNvCxnSpPr/>
          <p:nvPr/>
        </p:nvCxnSpPr>
        <p:spPr>
          <a:xfrm flipV="1">
            <a:off x="928800" y="1999440"/>
            <a:ext cx="643320" cy="42948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Прямоугольник 3"/>
          <p:cNvSpPr/>
          <p:nvPr/>
        </p:nvSpPr>
        <p:spPr>
          <a:xfrm>
            <a:off x="0" y="1989000"/>
            <a:ext cx="9144000" cy="42879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11"/>
          <p:cNvSpPr/>
          <p:nvPr/>
        </p:nvSpPr>
        <p:spPr>
          <a:xfrm>
            <a:off x="0" y="2000160"/>
            <a:ext cx="9144000" cy="28728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ая соединительная линия 7"/>
          <p:cNvSpPr/>
          <p:nvPr/>
        </p:nvSpPr>
        <p:spPr>
          <a:xfrm flipH="1">
            <a:off x="684360" y="2565360"/>
            <a:ext cx="1440" cy="3225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Заголовок 1"/>
          <p:cNvSpPr/>
          <p:nvPr/>
        </p:nvSpPr>
        <p:spPr>
          <a:xfrm>
            <a:off x="857160" y="3068640"/>
            <a:ext cx="817884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0"/>
          <p:cNvSpPr/>
          <p:nvPr/>
        </p:nvSpPr>
        <p:spPr>
          <a:xfrm>
            <a:off x="8834760" y="648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6"/>
          <p:cNvSpPr/>
          <p:nvPr/>
        </p:nvSpPr>
        <p:spPr>
          <a:xfrm>
            <a:off x="8072280" y="1357200"/>
            <a:ext cx="107172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9"/>
          <p:cNvSpPr/>
          <p:nvPr/>
        </p:nvSpPr>
        <p:spPr>
          <a:xfrm>
            <a:off x="0" y="6550200"/>
            <a:ext cx="83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осстат, 2013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30"/>
          <p:cNvSpPr/>
          <p:nvPr/>
        </p:nvSpPr>
        <p:spPr>
          <a:xfrm flipV="1">
            <a:off x="8429760" y="5145120"/>
            <a:ext cx="1440" cy="141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39"/>
          <p:cNvSpPr/>
          <p:nvPr/>
        </p:nvSpPr>
        <p:spPr>
          <a:xfrm flipH="1">
            <a:off x="8786880" y="5145120"/>
            <a:ext cx="144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Диаграмма 24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8715600" cy="585792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ая соединительная линия 9"/>
          <p:cNvSpPr/>
          <p:nvPr/>
        </p:nvSpPr>
        <p:spPr>
          <a:xfrm>
            <a:off x="5429160" y="1643040"/>
            <a:ext cx="328608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11"/>
          <p:cNvSpPr/>
          <p:nvPr/>
        </p:nvSpPr>
        <p:spPr>
          <a:xfrm flipH="1">
            <a:off x="8714880" y="2571840"/>
            <a:ext cx="1800" cy="428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1"/>
          <p:cNvSpPr/>
          <p:nvPr/>
        </p:nvSpPr>
        <p:spPr>
          <a:xfrm>
            <a:off x="8290800" y="2071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3"/>
          <p:cNvSpPr/>
          <p:nvPr/>
        </p:nvSpPr>
        <p:spPr>
          <a:xfrm flipH="1">
            <a:off x="8714880" y="1643040"/>
            <a:ext cx="1800" cy="428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Заголовок 1"/>
          <p:cNvSpPr/>
          <p:nvPr/>
        </p:nvSpPr>
        <p:spPr>
          <a:xfrm>
            <a:off x="214200" y="142920"/>
            <a:ext cx="8658360" cy="785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коэффициента смертности населения РФ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болезней системы кровообращ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5"/>
          <p:cNvSpPr/>
          <p:nvPr/>
        </p:nvSpPr>
        <p:spPr>
          <a:xfrm flipV="1">
            <a:off x="468360" y="114840"/>
            <a:ext cx="2592360" cy="73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8834040" y="648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7"/>
          <p:cNvSpPr/>
          <p:nvPr/>
        </p:nvSpPr>
        <p:spPr>
          <a:xfrm>
            <a:off x="1159560" y="1071720"/>
            <a:ext cx="31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на 100 ты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5"/>
          <p:cNvSpPr/>
          <p:nvPr/>
        </p:nvSpPr>
        <p:spPr>
          <a:xfrm>
            <a:off x="214200" y="0"/>
            <a:ext cx="871560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пансеризация одна из целей публичной декларации Минздрава 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6"/>
          <p:cNvSpPr/>
          <p:nvPr/>
        </p:nvSpPr>
        <p:spPr>
          <a:xfrm flipV="1">
            <a:off x="428760" y="0"/>
            <a:ext cx="259056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Диаграмма 4" descr=""/>
          <p:cNvPicPr/>
          <p:nvPr/>
        </p:nvPicPr>
        <p:blipFill>
          <a:blip r:embed="rId1"/>
          <a:stretch/>
        </p:blipFill>
        <p:spPr>
          <a:xfrm>
            <a:off x="1857240" y="928800"/>
            <a:ext cx="5643720" cy="4714920"/>
          </a:xfrm>
          <a:prstGeom prst="rect">
            <a:avLst/>
          </a:prstGeom>
          <a:ln w="0">
            <a:noFill/>
          </a:ln>
        </p:spPr>
      </p:pic>
      <p:sp>
        <p:nvSpPr>
          <p:cNvPr id="111" name="Овал 13"/>
          <p:cNvSpPr/>
          <p:nvPr/>
        </p:nvSpPr>
        <p:spPr>
          <a:xfrm>
            <a:off x="3857760" y="3071880"/>
            <a:ext cx="1699920" cy="1571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 75% всех смер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лево 7"/>
          <p:cNvSpPr/>
          <p:nvPr/>
        </p:nvSpPr>
        <p:spPr>
          <a:xfrm rot="20019000">
            <a:off x="5795640" y="1860120"/>
            <a:ext cx="2571840" cy="1285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пансер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лево 8"/>
          <p:cNvSpPr/>
          <p:nvPr/>
        </p:nvSpPr>
        <p:spPr>
          <a:xfrm rot="20019000">
            <a:off x="2463480" y="3871440"/>
            <a:ext cx="687240" cy="1285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9"/>
          <p:cNvSpPr/>
          <p:nvPr/>
        </p:nvSpPr>
        <p:spPr>
          <a:xfrm>
            <a:off x="428760" y="4357800"/>
            <a:ext cx="1857240" cy="171432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 темпа снижения смертности на 30% (до 2,6%) через 2-3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0"/>
          <p:cNvSpPr/>
          <p:nvPr/>
        </p:nvSpPr>
        <p:spPr>
          <a:xfrm>
            <a:off x="8834040" y="648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Заголовок 1"/>
          <p:cNvSpPr/>
          <p:nvPr/>
        </p:nvSpPr>
        <p:spPr>
          <a:xfrm>
            <a:off x="285840" y="0"/>
            <a:ext cx="8643960" cy="882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женедельный мониторинг диспансеризаци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profmed.rosminzdrav.r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Content Placeholder 5" descr=""/>
          <p:cNvPicPr/>
          <p:nvPr/>
        </p:nvPicPr>
        <p:blipFill>
          <a:blip r:embed="rId1"/>
          <a:stretch/>
        </p:blipFill>
        <p:spPr>
          <a:xfrm>
            <a:off x="-12600" y="1193760"/>
            <a:ext cx="8940600" cy="56451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3"/>
          <p:cNvSpPr/>
          <p:nvPr/>
        </p:nvSpPr>
        <p:spPr>
          <a:xfrm flipV="1">
            <a:off x="571680" y="-720"/>
            <a:ext cx="2592360" cy="73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2"/>
          <p:cNvSpPr/>
          <p:nvPr/>
        </p:nvSpPr>
        <p:spPr>
          <a:xfrm>
            <a:off x="108000" y="6615000"/>
            <a:ext cx="108000" cy="103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072200" y="2785320"/>
            <a:ext cx="1500840" cy="500400"/>
            <a:chOff x="7072200" y="2785320"/>
            <a:chExt cx="1500840" cy="500400"/>
          </a:xfrm>
        </p:grpSpPr>
        <p:cxnSp>
          <p:nvCxnSpPr>
            <p:cNvPr id="121" name="Прямая со стрелкой 13"/>
            <p:cNvCxnSpPr/>
            <p:nvPr/>
          </p:nvCxnSpPr>
          <p:spPr>
            <a:xfrm flipV="1">
              <a:off x="7072200" y="2785320"/>
              <a:ext cx="1501200" cy="50076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22" name=""/>
            <p:cNvSpPr txBox="1"/>
            <p:nvPr/>
          </p:nvSpPr>
          <p:spPr>
            <a:xfrm rot="10800000">
              <a:off x="7072200" y="2785320"/>
              <a:ext cx="1500480" cy="50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Box 14"/>
          <p:cNvSpPr/>
          <p:nvPr/>
        </p:nvSpPr>
        <p:spPr>
          <a:xfrm>
            <a:off x="928800" y="92880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01.10.2013 обследовано 16,7 млн. 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7"/>
          <p:cNvSpPr/>
          <p:nvPr/>
        </p:nvSpPr>
        <p:spPr>
          <a:xfrm>
            <a:off x="1857240" y="1643040"/>
            <a:ext cx="650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 диспансеризации взрослого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0"/>
          <p:cNvSpPr/>
          <p:nvPr/>
        </p:nvSpPr>
        <p:spPr>
          <a:xfrm>
            <a:off x="8834040" y="648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Диаграмма 12" descr=""/>
          <p:cNvPicPr/>
          <p:nvPr/>
        </p:nvPicPr>
        <p:blipFill>
          <a:blip r:embed="rId1"/>
          <a:stretch/>
        </p:blipFill>
        <p:spPr>
          <a:xfrm>
            <a:off x="596880" y="1925640"/>
            <a:ext cx="7950240" cy="4548240"/>
          </a:xfrm>
          <a:prstGeom prst="rect">
            <a:avLst/>
          </a:prstGeom>
          <a:ln w="0">
            <a:noFill/>
          </a:ln>
        </p:spPr>
      </p:pic>
      <p:cxnSp>
        <p:nvCxnSpPr>
          <p:cNvPr id="127" name="Прямая со стрелкой 17"/>
          <p:cNvCxnSpPr/>
          <p:nvPr/>
        </p:nvCxnSpPr>
        <p:spPr>
          <a:xfrm>
            <a:off x="1332000" y="2923920"/>
            <a:ext cx="1080000" cy="1080"/>
          </a:xfrm>
          <a:prstGeom prst="straightConnector1">
            <a:avLst/>
          </a:prstGeom>
          <a:ln w="41400">
            <a:solidFill>
              <a:srgbClr val="cc0000"/>
            </a:solidFill>
            <a:miter/>
            <a:headEnd len="med" type="arrow" w="med"/>
            <a:tailEnd len="med" type="arrow" w="med"/>
          </a:ln>
        </p:spPr>
      </p:cxnSp>
      <p:sp>
        <p:nvSpPr>
          <p:cNvPr id="128" name="TextBox 6"/>
          <p:cNvSpPr/>
          <p:nvPr/>
        </p:nvSpPr>
        <p:spPr>
          <a:xfrm>
            <a:off x="8320320" y="6041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Заголовок 1"/>
          <p:cNvSpPr/>
          <p:nvPr/>
        </p:nvSpPr>
        <p:spPr>
          <a:xfrm>
            <a:off x="0" y="0"/>
            <a:ext cx="9144000" cy="882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п профилактических осмотров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возрасте от 0 до 17 лет включ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0"/>
          <p:cNvSpPr/>
          <p:nvPr/>
        </p:nvSpPr>
        <p:spPr>
          <a:xfrm flipV="1">
            <a:off x="142920" y="0"/>
            <a:ext cx="259236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145800" y="2276640"/>
            <a:ext cx="5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Прямая со стрелкой 20"/>
          <p:cNvCxnSpPr/>
          <p:nvPr/>
        </p:nvCxnSpPr>
        <p:spPr>
          <a:xfrm>
            <a:off x="4066920" y="2923920"/>
            <a:ext cx="1081800" cy="1080"/>
          </a:xfrm>
          <a:prstGeom prst="straightConnector1">
            <a:avLst/>
          </a:prstGeom>
          <a:ln w="41400">
            <a:solidFill>
              <a:srgbClr val="cc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3" name="Прямая со стрелкой 21"/>
          <p:cNvCxnSpPr/>
          <p:nvPr/>
        </p:nvCxnSpPr>
        <p:spPr>
          <a:xfrm>
            <a:off x="5435280" y="2923920"/>
            <a:ext cx="1081800" cy="1080"/>
          </a:xfrm>
          <a:prstGeom prst="straightConnector1">
            <a:avLst/>
          </a:prstGeom>
          <a:ln w="41400">
            <a:solidFill>
              <a:srgbClr val="cc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4" name="Прямая со стрелкой 22"/>
          <p:cNvCxnSpPr/>
          <p:nvPr/>
        </p:nvCxnSpPr>
        <p:spPr>
          <a:xfrm>
            <a:off x="6803640" y="2923920"/>
            <a:ext cx="1081800" cy="1080"/>
          </a:xfrm>
          <a:prstGeom prst="straightConnector1">
            <a:avLst/>
          </a:prstGeom>
          <a:ln w="41400">
            <a:solidFill>
              <a:srgbClr val="cc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5" name="Прямая со стрелкой 26"/>
          <p:cNvCxnSpPr/>
          <p:nvPr/>
        </p:nvCxnSpPr>
        <p:spPr>
          <a:xfrm>
            <a:off x="2715840" y="2923920"/>
            <a:ext cx="1081800" cy="1080"/>
          </a:xfrm>
          <a:prstGeom prst="straightConnector1">
            <a:avLst/>
          </a:prstGeom>
          <a:ln w="41400">
            <a:solidFill>
              <a:srgbClr val="cc0000"/>
            </a:solidFill>
            <a:miter/>
            <a:headEnd len="med" type="arrow" w="med"/>
            <a:tailEnd len="med" type="arrow" w="med"/>
          </a:ln>
        </p:spPr>
      </p:cxnSp>
      <p:sp>
        <p:nvSpPr>
          <p:cNvPr id="136" name="TextBox 27"/>
          <p:cNvSpPr/>
          <p:nvPr/>
        </p:nvSpPr>
        <p:spPr>
          <a:xfrm>
            <a:off x="1405080" y="2664000"/>
            <a:ext cx="863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07 18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9"/>
          <p:cNvSpPr/>
          <p:nvPr/>
        </p:nvSpPr>
        <p:spPr>
          <a:xfrm>
            <a:off x="6912000" y="26557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64 271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0"/>
          <p:cNvSpPr/>
          <p:nvPr/>
        </p:nvSpPr>
        <p:spPr>
          <a:xfrm>
            <a:off x="5543640" y="2664000"/>
            <a:ext cx="86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07 74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1"/>
          <p:cNvSpPr/>
          <p:nvPr/>
        </p:nvSpPr>
        <p:spPr>
          <a:xfrm>
            <a:off x="4176720" y="2664000"/>
            <a:ext cx="86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02 09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2"/>
          <p:cNvSpPr/>
          <p:nvPr/>
        </p:nvSpPr>
        <p:spPr>
          <a:xfrm>
            <a:off x="2805120" y="2647800"/>
            <a:ext cx="86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0 09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3"/>
          <p:cNvSpPr/>
          <p:nvPr/>
        </p:nvSpPr>
        <p:spPr>
          <a:xfrm>
            <a:off x="142920" y="64119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* </a:t>
            </a: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без данных по г. Москве, Р. Коми, Карачаево-Черкесской Р., Чукотского А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42840" y="984600"/>
            <a:ext cx="9058320" cy="9464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1 декабря 2012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№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346н «О Порядке прохождения несовершеннолетними медицинских осмотров, в том числ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 поступлении в образовательные учреждения и в период обучения в них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зарегистрирован в Минюсте России 02.04.2013 г. № 2796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0"/>
          <p:cNvSpPr/>
          <p:nvPr/>
        </p:nvSpPr>
        <p:spPr>
          <a:xfrm>
            <a:off x="8834040" y="648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Стрелка вниз 43"/>
          <p:cNvSpPr/>
          <p:nvPr/>
        </p:nvSpPr>
        <p:spPr>
          <a:xfrm>
            <a:off x="7286760" y="3429000"/>
            <a:ext cx="603000" cy="150012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трелка вниз 42"/>
          <p:cNvSpPr/>
          <p:nvPr/>
        </p:nvSpPr>
        <p:spPr>
          <a:xfrm>
            <a:off x="4286160" y="3500280"/>
            <a:ext cx="603360" cy="150048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357120" y="0"/>
            <a:ext cx="8572680" cy="520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чный темп диспансеризации в регио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трелка вниз 16"/>
          <p:cNvSpPr/>
          <p:nvPr/>
        </p:nvSpPr>
        <p:spPr>
          <a:xfrm>
            <a:off x="1143000" y="3500280"/>
            <a:ext cx="603360" cy="157176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22"/>
          <p:cNvSpPr/>
          <p:nvPr/>
        </p:nvSpPr>
        <p:spPr>
          <a:xfrm flipV="1">
            <a:off x="428760" y="0"/>
            <a:ext cx="259236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7143840" y="514368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4143240" y="514368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1143000" y="51436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37"/>
          <p:cNvSpPr/>
          <p:nvPr/>
        </p:nvSpPr>
        <p:spPr>
          <a:xfrm>
            <a:off x="214200" y="1214280"/>
            <a:ext cx="2571840" cy="2000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 регионов  с выполнением  плана более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лежит  диспансериз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,7 млн.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38"/>
          <p:cNvSpPr/>
          <p:nvPr/>
        </p:nvSpPr>
        <p:spPr>
          <a:xfrm>
            <a:off x="3214800" y="1214280"/>
            <a:ext cx="2571480" cy="200052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 регионов  с выполнением  плана 25-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лежит  диспансериз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,7 млн.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39"/>
          <p:cNvSpPr/>
          <p:nvPr/>
        </p:nvSpPr>
        <p:spPr>
          <a:xfrm>
            <a:off x="6215040" y="1143000"/>
            <a:ext cx="2571840" cy="2000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 регионов  с выполнением  плана менее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лежит  диспансериз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,8 млн.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285840" y="4000680"/>
            <a:ext cx="8501040" cy="520560"/>
          </a:xfrm>
          <a:prstGeom prst="rect">
            <a:avLst/>
          </a:prstGeom>
          <a:solidFill>
            <a:srgbClr val="ff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в выполнении плана РФ на настоящий мо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44"/>
          <p:cNvSpPr/>
          <p:nvPr/>
        </p:nvSpPr>
        <p:spPr>
          <a:xfrm>
            <a:off x="8834040" y="648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п диспансеризации определяется активностью привлечения насе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1"/>
          <p:cNvSpPr/>
          <p:nvPr/>
        </p:nvSpPr>
        <p:spPr>
          <a:xfrm flipV="1">
            <a:off x="428760" y="-720"/>
            <a:ext cx="2592360" cy="73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http://www.med.cap.ru/home/177/%D0%B7%D0%B4%D0%B0%D0%BD%D0%B8%D0%B5%20%D0%BF%D0%BE%D0%BB%D0%B8%D0%BA%D0%BB%D0%B8%D0%BD%D0%B8%D0%BA%D0%B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0280" y="1214280"/>
            <a:ext cx="2167200" cy="1428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3" descr="http://www.ellada-russia.ru/images/russian/portal/telefono_email_frolland_01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680" y="3786120"/>
            <a:ext cx="1285560" cy="1000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https://encrypted-tbn2.gstatic.com/images?q=tbn:ANd9GcSLxF4ntH-mgVUFywP2wE3x8lFwh9yQhOgDh8hdtpLu7n8EI7lc"/>
          <p:cNvPicPr/>
          <p:nvPr/>
        </p:nvPicPr>
        <p:blipFill>
          <a:blip r:embed="rId5"/>
          <a:stretch/>
        </p:blipFill>
        <p:spPr>
          <a:xfrm>
            <a:off x="7000920" y="2857680"/>
            <a:ext cx="1643040" cy="1056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https://encrypted-tbn3.gstatic.com/images?q=tbn:ANd9GcQVYRS2r4Nub84qxub8XnDdSNYi59_cVC811a-WdcGS6cgSkK6-Ew"/>
          <p:cNvPicPr/>
          <p:nvPr/>
        </p:nvPicPr>
        <p:blipFill>
          <a:blip r:embed="rId6"/>
          <a:stretch/>
        </p:blipFill>
        <p:spPr>
          <a:xfrm>
            <a:off x="7429680" y="4071960"/>
            <a:ext cx="1285560" cy="1262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http://wiki-work.ru/images/picinet/97591234Internet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215120" y="1857240"/>
            <a:ext cx="1428840" cy="1000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ttp://mytashkent.uz/wp-content/uploads/2010/07/yashik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1680" y="5357880"/>
            <a:ext cx="1357200" cy="1285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http://vrach24plus.ru/wp-content/uploads/2013/06/vrach_na_dom_platno.pn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85840" y="1428840"/>
            <a:ext cx="1285920" cy="1928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https://encrypted-tbn0.gstatic.com/images?q=tbn:ANd9GcQ_hgeHqxUJQIVZKIOhacFZMlIN1w0u-ou6ckPAET0_QWr5B6g7"/>
          <p:cNvPicPr/>
          <p:nvPr/>
        </p:nvPicPr>
        <p:blipFill>
          <a:blip r:embed="rId13"/>
          <a:stretch/>
        </p:blipFill>
        <p:spPr>
          <a:xfrm>
            <a:off x="5715000" y="5429160"/>
            <a:ext cx="1571760" cy="1157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http://www.ktovmedicine.ru/img/images/registratura.jpg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643120" y="5429160"/>
            <a:ext cx="1785960" cy="117180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14"/>
          <p:cNvSpPr/>
          <p:nvPr/>
        </p:nvSpPr>
        <p:spPr>
          <a:xfrm>
            <a:off x="358200" y="1071720"/>
            <a:ext cx="22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вартирные об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5"/>
          <p:cNvSpPr/>
          <p:nvPr/>
        </p:nvSpPr>
        <p:spPr>
          <a:xfrm>
            <a:off x="363240" y="342900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зв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6"/>
          <p:cNvSpPr/>
          <p:nvPr/>
        </p:nvSpPr>
        <p:spPr>
          <a:xfrm>
            <a:off x="789840" y="500076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7"/>
          <p:cNvSpPr/>
          <p:nvPr/>
        </p:nvSpPr>
        <p:spPr>
          <a:xfrm>
            <a:off x="2442960" y="4857840"/>
            <a:ext cx="275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е в поликлиник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любому поводу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8"/>
          <p:cNvSpPr/>
          <p:nvPr/>
        </p:nvSpPr>
        <p:spPr>
          <a:xfrm>
            <a:off x="5500440" y="4786200"/>
            <a:ext cx="151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ода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9"/>
          <p:cNvSpPr/>
          <p:nvPr/>
        </p:nvSpPr>
        <p:spPr>
          <a:xfrm>
            <a:off x="7576920" y="135720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0"/>
          <p:cNvSpPr/>
          <p:nvPr/>
        </p:nvSpPr>
        <p:spPr>
          <a:xfrm>
            <a:off x="2940480" y="857160"/>
            <a:ext cx="38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32 медицинских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Прямая со стрелкой 22"/>
          <p:cNvCxnSpPr/>
          <p:nvPr/>
        </p:nvCxnSpPr>
        <p:spPr>
          <a:xfrm>
            <a:off x="1643040" y="2642760"/>
            <a:ext cx="1643760" cy="78660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6" name="Прямая со стрелкой 23"/>
          <p:cNvCxnSpPr/>
          <p:nvPr/>
        </p:nvCxnSpPr>
        <p:spPr>
          <a:xfrm>
            <a:off x="2071440" y="3857760"/>
            <a:ext cx="786600" cy="216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7" name="Прямая со стрелкой 25"/>
          <p:cNvCxnSpPr/>
          <p:nvPr/>
        </p:nvCxnSpPr>
        <p:spPr>
          <a:xfrm flipV="1">
            <a:off x="1785600" y="4214520"/>
            <a:ext cx="1215000" cy="92952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8" name="Прямая со стрелкой 27"/>
          <p:cNvCxnSpPr/>
          <p:nvPr/>
        </p:nvCxnSpPr>
        <p:spPr>
          <a:xfrm flipV="1">
            <a:off x="3786120" y="4428360"/>
            <a:ext cx="286560" cy="50076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9" name="Прямая со стрелкой 29"/>
          <p:cNvCxnSpPr/>
          <p:nvPr/>
        </p:nvCxnSpPr>
        <p:spPr>
          <a:xfrm flipH="1" flipV="1">
            <a:off x="5571360" y="3929040"/>
            <a:ext cx="715320" cy="64332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0" name="Прямая со стрелкой 31"/>
          <p:cNvCxnSpPr/>
          <p:nvPr/>
        </p:nvCxnSpPr>
        <p:spPr>
          <a:xfrm flipH="1">
            <a:off x="6143040" y="3499200"/>
            <a:ext cx="929160" cy="7236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81" name="Picture 16" descr="Рисунок &quot;Человек в движении&quot;"/>
          <p:cNvPicPr/>
          <p:nvPr/>
        </p:nvPicPr>
        <p:blipFill>
          <a:blip r:embed="rId16"/>
          <a:stretch/>
        </p:blipFill>
        <p:spPr>
          <a:xfrm>
            <a:off x="4000680" y="3286080"/>
            <a:ext cx="1214280" cy="1071720"/>
          </a:xfrm>
          <a:prstGeom prst="rect">
            <a:avLst/>
          </a:prstGeom>
          <a:ln w="0">
            <a:noFill/>
          </a:ln>
        </p:spPr>
      </p:pic>
      <p:cxnSp>
        <p:nvCxnSpPr>
          <p:cNvPr id="182" name="Прямая со стрелкой 47"/>
          <p:cNvCxnSpPr/>
          <p:nvPr/>
        </p:nvCxnSpPr>
        <p:spPr>
          <a:xfrm flipV="1">
            <a:off x="4570560" y="2714400"/>
            <a:ext cx="3600" cy="42912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83" name="Прямоугольник 49"/>
          <p:cNvSpPr/>
          <p:nvPr/>
        </p:nvSpPr>
        <p:spPr>
          <a:xfrm>
            <a:off x="8834040" y="648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темпе диспансеризации 90 тысяч человек в день диспансеризация прибавила 2,3 дополнительных посещения в день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1"/>
          <p:cNvSpPr/>
          <p:nvPr/>
        </p:nvSpPr>
        <p:spPr>
          <a:xfrm flipV="1">
            <a:off x="428760" y="-720"/>
            <a:ext cx="2592360" cy="73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http://www.myjulia.ru/data/cache/2012/02/15/984046_3382-800x60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0800" y="2286000"/>
            <a:ext cx="3071880" cy="221472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6"/>
          <p:cNvSpPr/>
          <p:nvPr/>
        </p:nvSpPr>
        <p:spPr>
          <a:xfrm>
            <a:off x="4572000" y="121428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8 тысяч участковых терапевтов и 10 тысяч врачей общей прак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7"/>
          <p:cNvSpPr/>
          <p:nvPr/>
        </p:nvSpPr>
        <p:spPr>
          <a:xfrm>
            <a:off x="5643720" y="4572000"/>
            <a:ext cx="3214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зультатов об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е профилактическое консуль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дальнейшей тактики в отношении паци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http://r-dmm.simbis.ru/media/thumbs_001/11117/img_1283487785_940x72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14840" y="2786040"/>
            <a:ext cx="1357200" cy="1071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http://medpro.ru/sites/default/files/news-280313-1.jpe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4200" y="2357280"/>
            <a:ext cx="2976840" cy="212436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11"/>
          <p:cNvSpPr/>
          <p:nvPr/>
        </p:nvSpPr>
        <p:spPr>
          <a:xfrm>
            <a:off x="0" y="128592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деление/кабинет медицинской профилак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2"/>
          <p:cNvSpPr/>
          <p:nvPr/>
        </p:nvSpPr>
        <p:spPr>
          <a:xfrm>
            <a:off x="214200" y="4572000"/>
            <a:ext cx="407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 диспансер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ос по анк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мет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документ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бленное профилактическое консуль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Прямая со стрелкой 19"/>
          <p:cNvCxnSpPr/>
          <p:nvPr/>
        </p:nvCxnSpPr>
        <p:spPr>
          <a:xfrm>
            <a:off x="3286080" y="3429000"/>
            <a:ext cx="286560" cy="216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4" name="Прямая со стрелкой 21"/>
          <p:cNvCxnSpPr/>
          <p:nvPr/>
        </p:nvCxnSpPr>
        <p:spPr>
          <a:xfrm>
            <a:off x="5143320" y="3429000"/>
            <a:ext cx="286200" cy="216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95" name="Прямоугольник 22"/>
          <p:cNvSpPr/>
          <p:nvPr/>
        </p:nvSpPr>
        <p:spPr>
          <a:xfrm>
            <a:off x="8834040" y="648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5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растная структура  взрослого населения, прошедшего диспансериз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6"/>
          <p:cNvSpPr/>
          <p:nvPr/>
        </p:nvSpPr>
        <p:spPr>
          <a:xfrm flipV="1">
            <a:off x="214200" y="0"/>
            <a:ext cx="259092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37"/>
          <p:cNvGrpSpPr/>
          <p:nvPr/>
        </p:nvGrpSpPr>
        <p:grpSpPr>
          <a:xfrm>
            <a:off x="971640" y="1125360"/>
            <a:ext cx="7056360" cy="4448520"/>
            <a:chOff x="971640" y="1125360"/>
            <a:chExt cx="7056360" cy="4448520"/>
          </a:xfrm>
        </p:grpSpPr>
        <p:graphicFrame>
          <p:nvGraphicFramePr>
            <p:cNvPr id="199" name="Object 30"/>
            <p:cNvGraphicFramePr/>
            <p:nvPr/>
          </p:nvGraphicFramePr>
          <p:xfrm>
            <a:off x="971640" y="1125360"/>
            <a:ext cx="7056360" cy="444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0" name="Object 3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640" y="1125360"/>
                      <a:ext cx="7056360" cy="444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1" name="Text Box 31"/>
            <p:cNvSpPr/>
            <p:nvPr/>
          </p:nvSpPr>
          <p:spPr>
            <a:xfrm>
              <a:off x="1403280" y="220500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1-39 ле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2"/>
            <p:cNvSpPr/>
            <p:nvPr/>
          </p:nvSpPr>
          <p:spPr>
            <a:xfrm>
              <a:off x="5867280" y="4581360"/>
              <a:ext cx="132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2-60 ле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3"/>
            <p:cNvSpPr/>
            <p:nvPr/>
          </p:nvSpPr>
          <p:spPr>
            <a:xfrm>
              <a:off x="5867280" y="1773360"/>
              <a:ext cx="20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3 года и старше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34"/>
            <p:cNvSpPr/>
            <p:nvPr/>
          </p:nvSpPr>
          <p:spPr>
            <a:xfrm>
              <a:off x="4934880" y="2349360"/>
              <a:ext cx="8269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22,7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35"/>
            <p:cNvSpPr/>
            <p:nvPr/>
          </p:nvSpPr>
          <p:spPr>
            <a:xfrm>
              <a:off x="4718880" y="3860640"/>
              <a:ext cx="8269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39,6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6"/>
            <p:cNvSpPr/>
            <p:nvPr/>
          </p:nvSpPr>
          <p:spPr>
            <a:xfrm>
              <a:off x="3350520" y="2781360"/>
              <a:ext cx="8269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37,7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Rectangle 12"/>
          <p:cNvSpPr/>
          <p:nvPr/>
        </p:nvSpPr>
        <p:spPr>
          <a:xfrm>
            <a:off x="0" y="5504040"/>
            <a:ext cx="9144000" cy="916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казались проходить диспансеризацию уже при  посещении поликлин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,1%   граж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прохождения отдельных видов обследования отказалось 3,8% граж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12"/>
          <p:cNvSpPr/>
          <p:nvPr/>
        </p:nvSpPr>
        <p:spPr>
          <a:xfrm>
            <a:off x="8706240" y="648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07:15:41Z</dcterms:created>
  <dc:creator>golutvoas</dc:creator>
  <dc:description/>
  <dc:language>en-US</dc:language>
  <cp:lastModifiedBy>boyazitova</cp:lastModifiedBy>
  <cp:lastPrinted>2013-04-23T08:18:34Z</cp:lastPrinted>
  <dcterms:modified xsi:type="dcterms:W3CDTF">2013-10-07T14:47:17Z</dcterms:modified>
  <cp:revision>923</cp:revision>
  <dc:subject/>
  <dc:title>Слайд 1</dc:title>
</cp:coreProperties>
</file>